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2D2-59C9-48B9-ADE8-41D26A8F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445-C8F2-4919-97D5-40A6C6BC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7DF-65A2-445E-87C0-7D80DCEF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7F7-7E3F-4D24-B7A9-607CC025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51F-DFE2-45CD-8BB9-CA19BEA5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355-4CA3-4E06-AFD4-BC2822AE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C3F-85C8-491A-A652-8AC3334D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740-33EE-4F35-9527-EEE18B57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03A1-0736-4D10-837F-E0EFB310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206-8566-47E1-906C-4DB7ABE6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C73-0DD6-45B6-8DD4-D8AE1F2E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3D9-0704-43E4-92CB-ADB8A3A1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892B-565B-44C0-AEF9-60FFC690717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.O. Use the binomial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57120" y="1357200"/>
            <a:ext cx="735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m is set three pieces of homework each week. The probability of him asking his teacher for help is 0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5840" y="2357280"/>
            <a:ext cx="5895720" cy="4077000"/>
          </a:xfrm>
          <a:prstGeom prst="rect">
            <a:avLst/>
          </a:prstGeom>
          <a:ln w="0">
            <a:noFill/>
          </a:ln>
        </p:spPr>
      </p:pic>
      <p:sp>
        <p:nvSpPr>
          <p:cNvPr id="44" name="Multiply 4"/>
          <p:cNvSpPr/>
          <p:nvPr/>
        </p:nvSpPr>
        <p:spPr>
          <a:xfrm>
            <a:off x="0" y="1857240"/>
            <a:ext cx="7429680" cy="5000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286680" y="264312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FE IS TOO SHORT FOR MORE TREE DIAGR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.O. Use the binomial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28760" y="1500120"/>
            <a:ext cx="8286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’s the probability of him asking all three times? Or none at al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k, Ask, Ask 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on’t, Don’t, Don’t 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nly one way to happ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(Asks Twice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(A, A, A’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(A, A’, 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(A’, A, 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ight Arrow Callout 5"/>
          <p:cNvSpPr/>
          <p:nvPr/>
        </p:nvSpPr>
        <p:spPr>
          <a:xfrm>
            <a:off x="3786120" y="4000680"/>
            <a:ext cx="1571760" cy="1357200"/>
          </a:xfrm>
          <a:prstGeom prst="rightArrowCallout">
            <a:avLst>
              <a:gd name="adj1" fmla="val 21206"/>
              <a:gd name="adj2" fmla="val 19847"/>
              <a:gd name="adj3" fmla="val 20261"/>
              <a:gd name="adj4" fmla="val 199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5500800" y="4143240"/>
            <a:ext cx="3357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 each case, the probability 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0.8 x 0.8 x 0.2 = 0.03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re are 3 ways it can hap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 P(Asks Twice) = 3 x 0.8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x 0.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660680" y="1687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614" y="4688"/>
                </a:moveTo>
                <a:lnTo>
                  <a:pt x="4614" y="468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.O. Use the binomial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428760" y="1714680"/>
            <a:ext cx="8286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I throw a biased coin, the chances of getting a head is 0.6. What is the probability that, if I throw the coin 6 times, I get exactly  4 head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each possibility, I have 4 heads (i.e. 4 “success”) and 2 tails (2 “failures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each combination, P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.g. for 3 heads, P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 heads, P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many combin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.O. Use the binomial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 am selecting 4 heads from 6 possibilities. Remember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, P(X = 4) =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x 0.6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x 0.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nerally: P(X = x) =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. 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. (1-p)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n-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/>
          <p:nvPr/>
        </p:nvCxnSpPr>
        <p:spPr>
          <a:xfrm flipV="1">
            <a:off x="3356640" y="5143320"/>
            <a:ext cx="57204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7"/>
          <p:cNvCxnSpPr/>
          <p:nvPr/>
        </p:nvCxnSpPr>
        <p:spPr>
          <a:xfrm flipH="1" flipV="1">
            <a:off x="4357440" y="5357160"/>
            <a:ext cx="7200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Straight Arrow Connector 9"/>
          <p:cNvCxnSpPr/>
          <p:nvPr/>
        </p:nvCxnSpPr>
        <p:spPr>
          <a:xfrm flipH="1" flipV="1">
            <a:off x="4857480" y="5357160"/>
            <a:ext cx="28656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TextBox 14"/>
          <p:cNvSpPr/>
          <p:nvPr/>
        </p:nvSpPr>
        <p:spPr>
          <a:xfrm>
            <a:off x="2500200" y="5857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umber of tri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3714840" y="62118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umber of succ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5072040" y="60008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bability of 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1:15:31Z</dcterms:created>
  <dc:creator>nh</dc:creator>
  <dc:description/>
  <dc:language>en-US</dc:language>
  <cp:lastModifiedBy>N Holden</cp:lastModifiedBy>
  <dcterms:modified xsi:type="dcterms:W3CDTF">2008-12-17T11:40:00Z</dcterms:modified>
  <cp:revision>10</cp:revision>
  <dc:subject/>
  <dc:title>Slide 1</dc:title>
</cp:coreProperties>
</file>